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82260"/>
        <c:axId val="94809162"/>
      </c:barChart>
      <c:catAx>
        <c:axId val="39582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09162"/>
        <c:crosses val="autoZero"/>
        <c:auto val="1"/>
        <c:lblAlgn val="ctr"/>
        <c:lblOffset val="100"/>
        <c:noMultiLvlLbl val="0"/>
      </c:catAx>
      <c:valAx>
        <c:axId val="94809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82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672-70FF-41E7-B189-5AC3D7B1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10F-129C-4166-9790-4CF783EF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97A-DC25-4A2B-995F-CFB031E5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999-E352-4201-BDE2-08F0E954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1E8-09A7-4A13-B06A-70F1F80C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957-DCFA-402E-BE7D-F6BE8CC1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6C8-D274-4EE6-97B5-9F8CE0ED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AF9-F741-4462-BA26-85E9C056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A1F-4CB5-46C4-A0C6-D7BCC2B5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F24-4AC8-44D0-B050-00F07E5B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50C-07EC-4FA0-BA0A-B0BEE06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C9E-F8E2-4E30-BFCE-E562A22C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68FE3-A881-4DE6-A210-C4B986F320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