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98117"/>
        <c:axId val="47790686"/>
      </c:barChart>
      <c:catAx>
        <c:axId val="82798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0686"/>
        <c:crosses val="autoZero"/>
        <c:auto val="1"/>
        <c:lblAlgn val="ctr"/>
        <c:lblOffset val="100"/>
        <c:noMultiLvlLbl val="0"/>
      </c:catAx>
      <c:valAx>
        <c:axId val="47790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98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BFA-0248-431C-84C4-5BED2882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4D1-FAE4-407A-815B-937C980B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7F7-11F0-4A6F-8EA8-2847FAC7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004-AC13-4A89-9446-28A26CB1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AC4-F1DC-4856-9C0D-E34BAAC2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D1D-B420-4921-A043-0E0FB4CF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863-97FB-4A29-BC16-A4E62617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4CD-7FF6-448E-AB90-14EEBADF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18E-B2DD-4C14-B8FC-AB0A68D0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BA5-9C47-4CF6-B2EE-BAC94F81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F6E-7873-4CA9-8C37-A4EF31E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9E5-A7F0-47B2-A15D-3EFD67BB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F4918-61BE-43EE-8DE4-D8E1021D16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