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18665"/>
        <c:axId val="30070063"/>
      </c:barChart>
      <c:catAx>
        <c:axId val="83718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0063"/>
        <c:crosses val="autoZero"/>
        <c:auto val="1"/>
        <c:lblAlgn val="ctr"/>
        <c:lblOffset val="100"/>
        <c:noMultiLvlLbl val="0"/>
      </c:catAx>
      <c:valAx>
        <c:axId val="30070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18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785-5AA4-4A96-BA5E-16D51CD6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BDD-7A46-4FAC-B6F1-6D3A4A1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C8C-CA2E-4F4B-8B04-F8552691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480-79AB-4659-AC17-25EA9D6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BF3-A043-4DEB-B5BF-47D4E0F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B09-74A1-401C-93C6-687B4C94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DCC-E3BE-45C4-9BEE-B7DC4B8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717-D83B-45B4-9F9A-13572B5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3B1-E278-4F08-8A91-0F15F712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D80-E6BC-42BB-9A26-9DD87D5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D51-0B95-4AD1-B40C-757FC91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173-6637-4936-8C7F-D2017DC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D2373-A02B-44EC-9113-A1D4236FBB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