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55184"/>
        <c:axId val="61827996"/>
      </c:barChart>
      <c:catAx>
        <c:axId val="99555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27996"/>
        <c:crosses val="autoZero"/>
        <c:auto val="1"/>
        <c:lblAlgn val="ctr"/>
        <c:lblOffset val="100"/>
        <c:noMultiLvlLbl val="0"/>
      </c:catAx>
      <c:valAx>
        <c:axId val="61827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55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7949-CD51-4C52-BFCE-4A4D6D3B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863-62A7-4515-BC45-A61C9186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D5C-63F4-403E-BF1A-28985C7E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D9B-EFD2-4D73-92DD-07622C94E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AB0F-A7CB-466D-89CC-D806AF2B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33F-4CE7-4E1E-BA27-185CD4D0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6C9-3C93-4FF9-953C-23C62F46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585-4135-4203-81D8-90646C7C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19E-68B9-4866-B0D0-1CEF0BA8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F48-F93A-496E-815D-A37DA67D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0FD-3BCF-45CC-8782-22F1D7B8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13E-B135-4989-BBC2-48328352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38CC8-1F67-4786-9E5D-2EB1821CBB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