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41291"/>
        <c:axId val="45253138"/>
      </c:barChart>
      <c:catAx>
        <c:axId val="31241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3138"/>
        <c:crosses val="autoZero"/>
        <c:auto val="1"/>
        <c:lblAlgn val="ctr"/>
        <c:lblOffset val="100"/>
        <c:noMultiLvlLbl val="0"/>
      </c:catAx>
      <c:valAx>
        <c:axId val="45253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41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871-0D10-4F8A-AABD-2EE2EEA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D47-B3BD-4617-8766-234E2E7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363-A8C9-498A-80E7-18EB5009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689-6A36-4EDA-BEC0-28228B8D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D52-698F-4DDC-8DA9-7C5E09B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CDF-2EB6-441B-9023-28B3CD0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92B-1CB0-4AE4-AE6F-2B2DEFE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DDE-BC41-489B-8BA8-724C9FE6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589-7849-4BFA-8B55-49103076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57F-00DD-4A32-8BBD-B710869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0A6-D2D5-4B41-B6C3-E2AAF49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F88-B160-4D9D-B341-6573561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D30F8-70AA-40E2-9B44-E65DE426B3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