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95090"/>
        <c:axId val="21932429"/>
      </c:barChart>
      <c:catAx>
        <c:axId val="53695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32429"/>
        <c:crosses val="autoZero"/>
        <c:auto val="1"/>
        <c:lblAlgn val="ctr"/>
        <c:lblOffset val="100"/>
        <c:noMultiLvlLbl val="0"/>
      </c:catAx>
      <c:valAx>
        <c:axId val="219324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95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5B9B-D08E-4E2F-9575-E29BC2BE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E5C-2E46-4F0B-BF5B-13C8D119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356-CF3F-47A6-AA11-742EFD7B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3B8-5069-49B8-BEA8-9143EC96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679D-3CDE-4D80-AF70-B67A8883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0D9-FD32-41B0-B3C4-06EF02C0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42B-87D4-430B-8944-2FD9D0B4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EC8-F832-4404-BE42-AF7572D6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0DA-27AB-4A1F-A039-E4B4EB34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4A6-C0E4-434B-A876-D6930746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1F6-BA20-4BE1-8A92-CA47C255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35A-755A-4400-944E-FFD5272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E4A49-D90D-46C2-A757-9FD0AA05D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