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77710"/>
        <c:axId val="31396137"/>
      </c:barChart>
      <c:catAx>
        <c:axId val="22977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6137"/>
        <c:crosses val="autoZero"/>
        <c:auto val="1"/>
        <c:lblAlgn val="ctr"/>
        <c:lblOffset val="100"/>
        <c:noMultiLvlLbl val="0"/>
      </c:catAx>
      <c:valAx>
        <c:axId val="31396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77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7A7-6CC7-4635-88FB-7AB02AC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C34-5FB8-4536-8ADB-41329F8F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BCB-1204-41E3-9C24-9F2224F2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6A9-ED97-4472-AB09-86806C9D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898-B266-4E1F-BD5B-95585A1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DDC-DE25-434B-902C-9DA1C42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917-6C72-4324-9B14-339AE424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CE9-90CE-4906-BCE4-0100F50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2DB-3FCA-4DBC-84C3-D44A7509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F77-B7B0-444F-8A38-D740F01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413-6119-40DD-A962-97C1B26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41-F1F8-4D28-88EE-C56915C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8CAE8-F15B-4C0D-BE99-73AA6FA8E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