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831387"/>
        <c:axId val="55387331"/>
      </c:barChart>
      <c:catAx>
        <c:axId val="42831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87331"/>
        <c:crosses val="autoZero"/>
        <c:auto val="1"/>
        <c:lblAlgn val="ctr"/>
        <c:lblOffset val="100"/>
        <c:noMultiLvlLbl val="0"/>
      </c:catAx>
      <c:valAx>
        <c:axId val="55387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31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4B1-56D0-44AC-BBD6-86B30C49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0B0-5FBB-4BEA-91C6-36FA89E4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B46-E9CA-40F3-8F1E-DB056601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CFF5-5230-45C7-B9C9-8D84383C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980D-9CC8-4E82-A063-3DE016FD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3EB-7379-4525-B66F-3CC53E79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3E2-0B6E-4A24-895E-787A8C5E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376-C504-410B-9199-0F9A31D2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64B3-5B36-4547-8783-60F3E811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F19-81C3-42AF-8414-9295F135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A9AE-1079-4FD6-AB56-5F584E4D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FF4-E510-4ADB-A1C2-FD2813F4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A0439-D23F-4869-96C9-AC28DC8999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