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87968"/>
        <c:axId val="57062481"/>
      </c:barChart>
      <c:catAx>
        <c:axId val="14487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62481"/>
        <c:crosses val="autoZero"/>
        <c:auto val="1"/>
        <c:lblAlgn val="ctr"/>
        <c:lblOffset val="100"/>
        <c:noMultiLvlLbl val="0"/>
      </c:catAx>
      <c:valAx>
        <c:axId val="57062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87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372-55F4-43DB-A58A-8F76F425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CE5-D9BB-4C21-A151-0F4344FC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9B7-73B5-472F-B432-CC0AC185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C2E-3062-439F-A3DB-3E08DB93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DE3-0636-4268-8DD8-39AAC30E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B75-444C-4196-9608-FA855D6D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513-C6BA-471A-BF12-DB0F1A17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4AD-E893-4F3C-B2C0-57D7FEC8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904-F687-41CA-AE9D-1BD958A5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9A6-A913-45A7-B10B-F400E323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7CD-F625-4F72-95AE-D47B0080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CB5-1A3E-42E9-8D0E-64ED2D81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1FC50-928E-495C-8521-AAEFCDB559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