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9027"/>
        <c:axId val="89996706"/>
      </c:barChart>
      <c:catAx>
        <c:axId val="2609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6706"/>
        <c:crosses val="autoZero"/>
        <c:auto val="1"/>
        <c:lblAlgn val="ctr"/>
        <c:lblOffset val="100"/>
        <c:noMultiLvlLbl val="0"/>
      </c:catAx>
      <c:valAx>
        <c:axId val="89996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35E-5A5F-4629-BE97-2226AEAC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0A1-C85F-474E-90C6-453FD46F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630-78A9-4463-802F-EF8D935B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33A-2EE8-4366-A22B-453E2C42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C03-E808-4070-9EA3-7D0FFD37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DFB-90B0-4E61-8AB9-1284C057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9D4-B65C-417D-8C01-459D024E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367-4EB7-4952-A932-57723B98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728-8D62-4FF1-AF0A-24817B5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4A4-9480-4E60-AF4A-2276D5F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8A1-92A2-477D-A9DD-12AEB72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C09-298E-4AAA-B366-CB71198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F1AA-F90E-4C1E-B271-2383EA321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