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63798"/>
        <c:axId val="49829787"/>
      </c:barChart>
      <c:catAx>
        <c:axId val="76463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9787"/>
        <c:crosses val="autoZero"/>
        <c:auto val="1"/>
        <c:lblAlgn val="ctr"/>
        <c:lblOffset val="100"/>
        <c:noMultiLvlLbl val="0"/>
      </c:catAx>
      <c:valAx>
        <c:axId val="49829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3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0AF-4753-4F1D-BAB4-57FFA6E9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149-F728-4A85-9D77-8479F4F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4DB-CAED-4E56-BB36-D150024C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756-5FCF-436B-BAEC-83E6E280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5D2-F1F0-4DAF-89EA-ABADF9B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C70-24B4-4CC0-AE86-6D5A5B6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480-C63B-4FAC-BF44-98D0BFBE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7BC-8C68-4597-9EC1-380E299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23F-36D5-4887-8143-515E61C9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10D-F974-465F-867A-EA48D75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C13-6825-47B0-8576-9287B1A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35C-432A-40EB-BB90-7A50265C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76D4A-1727-4E3F-A0CC-D81D3421E5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