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44150"/>
        <c:axId val="78116593"/>
      </c:barChart>
      <c:catAx>
        <c:axId val="851441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16593"/>
        <c:crosses val="autoZero"/>
        <c:auto val="1"/>
        <c:lblAlgn val="ctr"/>
        <c:lblOffset val="100"/>
        <c:noMultiLvlLbl val="0"/>
      </c:catAx>
      <c:valAx>
        <c:axId val="781165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441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49DF-6A1C-4F60-B7BC-1451661C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A1AE-D051-4D93-BBFA-917A361F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6AC1-7B72-40CB-ABAD-BFCE08D8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A2B1-2DD2-493A-A60F-6467D17C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8DE6-E41A-4611-B0BE-F0B02A43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DFC9-06CD-4C48-A6AB-E0B0E2D0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7D30-9148-43DC-ABB0-B01B4826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787E-59C3-4C05-AB38-3BF4D513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0988-EACC-445A-8BF9-BCC13821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F4B9-4E0A-4803-B483-F0903403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59E3-808C-4478-BF97-24732D6B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21F1-C4DD-4E9D-8648-32068570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A5F13-12FA-40AB-833F-6D7AAFE1D9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