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994226"/>
        <c:axId val="36025356"/>
      </c:barChart>
      <c:catAx>
        <c:axId val="199942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25356"/>
        <c:crosses val="autoZero"/>
        <c:auto val="1"/>
        <c:lblAlgn val="ctr"/>
        <c:lblOffset val="100"/>
        <c:noMultiLvlLbl val="0"/>
      </c:catAx>
      <c:valAx>
        <c:axId val="360253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942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1F68-C27E-4CA9-B9E8-0F2E9E71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A4A9-2E3A-4F92-ACD5-6354C87C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5DF-CE3A-4CDB-ADD6-7046B304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F811-396E-479A-A55B-0E170673F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75C6-8C4E-4F72-8846-31EF84C2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219D-22AA-4A40-9950-B252075F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01F8-CBED-4C7E-9FB1-8FB9DD6D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096A-D4DB-49DC-9FF1-5647C6D3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F086-087E-4956-95C0-299F0FA8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0CAE-8E76-4809-8A1F-CC734614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C2C8-EC56-4863-9EA3-6F2DB0A7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B33-C7E5-4611-A022-6B2F75E8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1AE51-FDB9-4798-A2F4-C5AEBEB061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