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78546"/>
        <c:axId val="29284520"/>
      </c:barChart>
      <c:catAx>
        <c:axId val="91178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84520"/>
        <c:crosses val="autoZero"/>
        <c:auto val="1"/>
        <c:lblAlgn val="ctr"/>
        <c:lblOffset val="100"/>
        <c:noMultiLvlLbl val="0"/>
      </c:catAx>
      <c:valAx>
        <c:axId val="29284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78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B1A-A56D-4312-A825-5239B3FD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06D-F8E4-496C-9677-4888A8BE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01C-C342-40AD-8429-ADC9E81B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ED4-3C75-4D1A-A9C2-723455D1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C11-4EAE-44DA-BF6E-644906A4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965-BD9F-4C54-8213-A6C0240F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D11-7CA4-4AF9-8ABE-F0061E48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F35-5859-4B6F-9A10-49BE7510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D34-ACC1-4EEA-B504-C3D2E66E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08B-C9F4-4A3D-9F78-1D8544A7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191-611E-443C-9847-65EA8E99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06B-4437-4EF1-9991-74CC23DF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2349B-39BE-464D-A347-82BD177EDE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