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78179"/>
        <c:axId val="96197093"/>
      </c:barChart>
      <c:catAx>
        <c:axId val="75878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97093"/>
        <c:crosses val="autoZero"/>
        <c:auto val="1"/>
        <c:lblAlgn val="ctr"/>
        <c:lblOffset val="100"/>
        <c:noMultiLvlLbl val="0"/>
      </c:catAx>
      <c:valAx>
        <c:axId val="96197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78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641-FC94-43E8-816F-A8CB7275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DEE-81DA-4612-B36C-7765A64E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E59-F39F-40E9-9330-5A64BC2B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96D-F1BA-4307-9C8F-31E9090B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3C7-C5E5-4562-A381-1E2DB7BF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CF3-01C7-4FDF-AD75-79F0A669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E6D-D541-4105-A07E-8F32187E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BE5-FD12-4A3A-A0D1-81EA259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8CE-A764-439D-AC12-945D4E8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A5C-7615-4389-9CB2-AA624A3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A04-7DC1-447B-BBE2-6C8EAE0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8AF-ECFC-4D0D-AA57-35ACA02F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0F88F-9BFE-4DC3-9D3F-743A694D25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