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61947"/>
        <c:axId val="85014573"/>
      </c:barChart>
      <c:catAx>
        <c:axId val="80661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4573"/>
        <c:crosses val="autoZero"/>
        <c:auto val="1"/>
        <c:lblAlgn val="ctr"/>
        <c:lblOffset val="100"/>
        <c:noMultiLvlLbl val="0"/>
      </c:catAx>
      <c:valAx>
        <c:axId val="85014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61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A63-9D7C-4F70-9F29-871ECEB9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6D8-B812-4FCE-8805-743D571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DDB-2BEF-438E-A626-20E6C62E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9A7-4341-45BA-AE38-E1C413B9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390-6F79-4883-892D-72F9B6AC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1DA-B4D4-451D-AC6F-3F66AA0B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F9F-FC4A-4D71-A8F3-2F33023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56F-6116-4CD8-BC14-74F3C4E1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A44-85C3-47A5-9F1E-4802EF89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3D9-BF9C-4C25-ADC5-CBA7285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598-A6F8-4E92-90A7-0342209E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BD8-20EE-44FA-B708-261490D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35C71-D8E2-46CE-98CA-34F864B8F6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