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56376"/>
        <c:axId val="14442975"/>
      </c:barChart>
      <c:catAx>
        <c:axId val="43856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42975"/>
        <c:crosses val="autoZero"/>
        <c:auto val="1"/>
        <c:lblAlgn val="ctr"/>
        <c:lblOffset val="100"/>
        <c:noMultiLvlLbl val="0"/>
      </c:catAx>
      <c:valAx>
        <c:axId val="14442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56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4C3-4874-4D9F-AB03-592E8B5E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5B0-AA71-4A99-B5E2-CBBA17A7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008-1200-4E7E-8102-BA61B9FD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D67-ABAE-4C4C-9BAF-DA222587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AE7-695C-4411-9DF1-1713B872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E2F-9B28-4F71-82DB-DCEE4CFE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396-29DD-4CA3-B2CB-A7B9D566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9C2-A59F-4A39-BD5B-78F7A8D9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1D7-7C66-4CA2-8814-6665828E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4F6-806A-4EA3-92A1-63670A0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EF5-B667-4DC9-AE33-22ED081E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E49-7A11-483B-8C6B-8F476443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FC644-297D-4BA9-86A1-5DE5FB386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