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20111"/>
        <c:axId val="95299835"/>
      </c:barChart>
      <c:catAx>
        <c:axId val="47720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99835"/>
        <c:crosses val="autoZero"/>
        <c:auto val="1"/>
        <c:lblAlgn val="ctr"/>
        <c:lblOffset val="100"/>
        <c:noMultiLvlLbl val="0"/>
      </c:catAx>
      <c:valAx>
        <c:axId val="95299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20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E2A-13D2-4163-91C4-27D17CC5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5C-3683-4D5B-8DB4-1ACF553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353-5DE0-4497-B6FC-5C34FC72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953-5B5E-4ADD-A21D-292B97C2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1CA-3EFB-4D2A-BF1A-10D6E55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323-6E3F-4861-BE41-68FB969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187-D5AE-49EF-99DE-71EC2E8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51A-D57A-41D1-880B-EF2DA813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AB7-E307-446F-8875-B731B0B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0DD-EDC8-4DE2-8270-D88F8E0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AF6-1D80-41ED-BC43-CA0D9D1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347-B9AB-4F06-8801-FDBEF89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291BF-A319-4D98-BB92-491C0949B2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