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73856"/>
        <c:axId val="97106756"/>
      </c:barChart>
      <c:catAx>
        <c:axId val="31673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06756"/>
        <c:crosses val="autoZero"/>
        <c:auto val="1"/>
        <c:lblAlgn val="ctr"/>
        <c:lblOffset val="100"/>
        <c:noMultiLvlLbl val="0"/>
      </c:catAx>
      <c:valAx>
        <c:axId val="97106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73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B10-641A-4C3A-A3C0-EB5317D9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BEA-858D-46E3-ABC8-B0E88E00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3FF-1DF1-4D30-A018-75546CD1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18E-2DBD-4E76-9656-2B70B8BB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C89-29CA-4F9A-92F9-F64C3157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772-5FB0-4B0C-B60C-776DC698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19C-78FC-41EC-9011-3F8EAB4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F78-9052-4CC5-B13A-7AAFC8EA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14A-C113-4503-B1BB-306A9528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902-4309-4DBC-99AA-F12154C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6FA-7FF0-47EF-A9F2-772FF17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4BD-2996-4193-9176-36D8239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851C2-68E3-407F-82DB-91EF6EFF7A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