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06957"/>
        <c:axId val="63809542"/>
      </c:barChart>
      <c:catAx>
        <c:axId val="17306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09542"/>
        <c:crosses val="autoZero"/>
        <c:auto val="1"/>
        <c:lblAlgn val="ctr"/>
        <c:lblOffset val="100"/>
        <c:noMultiLvlLbl val="0"/>
      </c:catAx>
      <c:valAx>
        <c:axId val="63809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06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A12A-F6C6-41CE-AE32-CF50D7EE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225A-C0B5-4437-9F55-CBC07FD9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C05A-1814-4828-9838-C8C1F3D5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1E15-B4E3-4B5D-81EC-0C6D364B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70A7-7CBB-4DF4-B08F-BE67D2CE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2511-4ADC-4830-AA0A-5D69C74B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88F-0B61-47DC-A2FD-C244A24C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7205-733F-470E-9D2C-18FC97EC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D7D-2381-4AEF-8670-D43C7532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2B3-529F-4343-A1B0-249D65F6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12BD-72B5-4943-B3B3-29EB4904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BEC7-CB91-4072-A9B2-01DC039F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6B407-5631-42DE-B4A3-D41A3651DA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