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81896"/>
        <c:axId val="16158861"/>
      </c:barChart>
      <c:catAx>
        <c:axId val="60981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58861"/>
        <c:crosses val="autoZero"/>
        <c:auto val="1"/>
        <c:lblAlgn val="ctr"/>
        <c:lblOffset val="100"/>
        <c:noMultiLvlLbl val="0"/>
      </c:catAx>
      <c:valAx>
        <c:axId val="16158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81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C20-06A7-467F-B016-D10FE3D9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62F-ABA6-4B5D-88D4-9069483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A20-38E7-46E1-96BA-94CED223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6F0-99D1-46A0-86B4-FA47CCD4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181-B95C-4CB9-822B-4E614209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F6E-782A-4A3A-9165-BFB07907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74A-52B2-47B4-B6C4-C03BE0A0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30E-D253-4ABD-A2A1-ED1D2348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F45-C542-49F7-AE9E-EFCB8C36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FDE-A3A1-4CE2-82E4-EEC94F8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94E-0E00-4B58-B2C7-64575F93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BB8-C7CE-4A40-B2AB-896A923B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8313-7F10-41A8-9A5E-6579B5EFD0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